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B3FC-11B4-49B6-9489-D46AC8D4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654D-B1C9-4837-BC87-E778683F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958-0BEC-41BB-BFEE-ABB6CFD7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0907-3624-429F-B5B5-34669C24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029-E93E-4706-8413-7E25B558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395-27E7-42D9-BF2B-BCB35793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6E6B-384D-41E3-85A0-C7DC1664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8684-8AC7-4801-903B-4B974CD2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2155-62D4-4E87-AF43-CB14C97C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2BBC-6A3F-4A6B-B882-641683A7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DF00-FA1C-4304-94E1-3B787C06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0F2E-169F-449B-AD2E-78A2D050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303C-26D9-400D-BED5-E7847C6D1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72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56160" y="-3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3733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720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4495680" cy="3124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495680" y="3733920"/>
            <a:ext cx="4648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720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572000" y="3733920"/>
            <a:ext cx="4572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22:52:41Z</dcterms:created>
  <dc:creator>Ken Belanger</dc:creator>
  <dc:description/>
  <dc:language>en-US</dc:language>
  <cp:lastModifiedBy>Ken Belanger</cp:lastModifiedBy>
  <dcterms:modified xsi:type="dcterms:W3CDTF">2008-02-01T13:33:00Z</dcterms:modified>
  <cp:revision>2</cp:revision>
  <dc:subject/>
  <dc:title>Slide 1</dc:title>
</cp:coreProperties>
</file>